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ct" ContentType="image/x-pict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706-0D9B-4A49-B6E0-D7E11A90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144-43B1-4B74-99B8-5E14DAC1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A26-596E-4B68-B1BB-42FCE063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870-5F5D-4B9B-AC4E-22B3F662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AF6-A76E-41EB-AE0B-3DC94797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834-80C4-47F1-AF7C-83ADD18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1EE-82BD-4FF2-BCFE-4956DBA5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059-6E47-4FE9-AB9B-EA67208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7DD-8406-4D1C-BC53-71F779C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AD7-81A2-4679-B867-16A2265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0A3-CAD0-4E22-91D8-7D328CB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E2B-EF85-4B4E-B9B4-D886F30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9814-1EBF-42C6-ABA2-9891935112C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16.xml"/><Relationship Id="rId16" Type="http://schemas.openxmlformats.org/officeDocument/2006/relationships/slide" Target="slide26.xml"/><Relationship Id="rId17" Type="http://schemas.openxmlformats.org/officeDocument/2006/relationships/slide" Target="slide3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2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58.xml"/><Relationship Id="rId24" Type="http://schemas.openxmlformats.org/officeDocument/2006/relationships/slide" Target="slide30.xml"/><Relationship Id="rId25" Type="http://schemas.openxmlformats.org/officeDocument/2006/relationships/slide" Target="slide6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6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8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bbou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762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u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19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is a planet but the Sun is one of thes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a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8380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looks big not because it is the largest star but becaus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is the closest star to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335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revolves around the Sun while this object revolves around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7621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is approximately this many times larger than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5 mill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one of the reasons why we can’t travel to the Su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0769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hot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far away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old is one typ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nera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order to test the hardness of a mineral we could do this type of t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atch T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7925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ile we can often tell this about a mineral just by looking at it, to be sure we need to do a streak tes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l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hases of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oon and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Earth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ndform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pping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9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Propertie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Of Mineral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&amp; Rock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002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can learn this about a mineral by weighing i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ens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combination of several minerals put togethe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Rock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takes approximately this many days for the moon to revolve around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 gets it’s light from this sour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6858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would be difficult to live on the Moon because it doesn’t have any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295280"/>
            <a:ext cx="7619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mosphe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814400" cy="18147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447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n object hits the Moon one of these is form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57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dio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LEXAR:HobenReview1:apollo11sound.mov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swer 1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picture below shows an example of this kind of landform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24442" r="0" b="0"/>
          <a:stretch/>
        </p:blipFill>
        <p:spPr>
          <a:xfrm>
            <a:off x="1981080" y="3352680"/>
            <a:ext cx="53802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unt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igan is made up of two of these landform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ninsula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82720" y="2666880"/>
            <a:ext cx="38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ndform looks like a mountain with a flat to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lateau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4800" r="0" b="20002"/>
          <a:stretch/>
        </p:blipFill>
        <p:spPr>
          <a:xfrm>
            <a:off x="1447920" y="2438280"/>
            <a:ext cx="6351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ar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tic, India, Pacific and this are the names of the Earth’s ocea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lantic Ocea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only continent that is also a countr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strali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e 4 cardinal directio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4479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rth, South, East &amp; W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3716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put on a map to help you tell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ass Ros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part of the map usually has different symbols to represent different objects on the map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p K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1981080" cy="19810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wo types of landforms that might be shown on a ma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85800"/>
            <a:ext cx="7619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mountain, rivers, oceans, lakes, hills, islands, peninsulas, plateaus, plains, valleys, coastlines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use a map to plan a ______ between two pla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out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520"/>
            <a:ext cx="79246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university that has the following fight song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0" name="LEXAR:HobenReview1:CroppedFightSong.mov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ew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905120" cy="190512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escen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Stein Brunvand</cp:lastModifiedBy>
  <dcterms:modified xsi:type="dcterms:W3CDTF">2007-12-13T16:17:27Z</dcterms:modified>
  <cp:revision>64</cp:revision>
  <dc:subject/>
  <dc:title>No Slide Title</dc:title>
</cp:coreProperties>
</file>