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ct" ContentType="image/x-pict"/>
  <Override PartName="/ppt/media/image1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F33-C185-4D9F-AC18-99E8DA1F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8F1-AC37-4765-912B-A651FCAF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9BF-6DC8-4A6C-9E6F-2F568B86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432-F2AA-4EC0-BC1F-F5D23260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A24-0D24-4CE0-8BCA-3CA6A3D1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13EE-A1DE-485C-BC15-C6EB8E8E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B600-374D-44F0-99A7-CB939F7E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9B4-7568-4723-B0AD-E9649366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DA97-3BD2-4FE8-9D0A-240E46EB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4AC-03C1-4BD9-9FC6-9399767E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97B-460C-486F-8F5A-6B9F2663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EAE-3EF3-4755-9BCF-1B6E3686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2BB9-AD4D-4C6E-8DB0-CF194EAAE299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64.xml"/><Relationship Id="rId6" Type="http://schemas.openxmlformats.org/officeDocument/2006/relationships/slide" Target="slide64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16.xml"/><Relationship Id="rId16" Type="http://schemas.openxmlformats.org/officeDocument/2006/relationships/slide" Target="slide26.xml"/><Relationship Id="rId17" Type="http://schemas.openxmlformats.org/officeDocument/2006/relationships/slide" Target="slide36.xml"/><Relationship Id="rId18" Type="http://schemas.openxmlformats.org/officeDocument/2006/relationships/slide" Target="slide18.xml"/><Relationship Id="rId19" Type="http://schemas.openxmlformats.org/officeDocument/2006/relationships/slide" Target="slide20.xml"/><Relationship Id="rId20" Type="http://schemas.openxmlformats.org/officeDocument/2006/relationships/slide" Target="slide22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58.xml"/><Relationship Id="rId24" Type="http://schemas.openxmlformats.org/officeDocument/2006/relationships/slide" Target="slide30.xml"/><Relationship Id="rId25" Type="http://schemas.openxmlformats.org/officeDocument/2006/relationships/slide" Target="slide60.xml"/><Relationship Id="rId26" Type="http://schemas.openxmlformats.org/officeDocument/2006/relationships/slide" Target="slide32.xml"/><Relationship Id="rId27" Type="http://schemas.openxmlformats.org/officeDocument/2006/relationships/slide" Target="slide42.xml"/><Relationship Id="rId28" Type="http://schemas.openxmlformats.org/officeDocument/2006/relationships/slide" Target="slide62.xml"/><Relationship Id="rId29" Type="http://schemas.openxmlformats.org/officeDocument/2006/relationships/slide" Target="slide2.xml"/><Relationship Id="rId3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3352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76720" y="3962520"/>
            <a:ext cx="2209680" cy="220968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981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ibbou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762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1981440" cy="198144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447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ull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2193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Earth is a planet but the Sun is one of thes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ta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8380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Sun looks big not because it is the largest star but because of thi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9051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 is the closest star to Earth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33520"/>
            <a:ext cx="792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Earth revolves around the Sun while this object revolves around Earth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Mo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76212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Sun is approximately this many times larger than the Earth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981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15 mill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9144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one of the reasons why we can’t travel to the Su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905120"/>
            <a:ext cx="80769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501"/>
              </a:spcBef>
              <a:buClr>
                <a:srgbClr val="ff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’s too hot!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spcBef>
                <a:spcPts val="4501"/>
              </a:spcBef>
              <a:buClr>
                <a:srgbClr val="ff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’s too far away!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7524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old is one type of thi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7524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ineral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1430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n order to test the hardness of a mineral we could do this type of tes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cratch Tes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57200"/>
            <a:ext cx="79250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While we can often tell this about a mineral just by looking at it, to be sure we need to do a streak test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lo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hases of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The Moon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The Su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oon and 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Earth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Landforms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apping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>
            <a:hlinkClick r:id="rId29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Times New Roman"/>
              </a:rPr>
              <a:t>Properties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Times New Roman"/>
              </a:rPr>
              <a:t>Of Minerals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Times New Roman"/>
              </a:rPr>
              <a:t>&amp; Rocks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6002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e can learn this about a mineral by weighing i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752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Densit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9907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the combination of several minerals put together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752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Rock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094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 takes approximately this many days for the moon to revolve around the Earth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057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143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Moon gets it’s light from this sourc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Su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68580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 would be difficult to live on the Moon because it doesn’t have any of thi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1295280"/>
            <a:ext cx="76197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i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at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tmospher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0948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1814400" cy="181476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4479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en an object hits the Moon one of these is formed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057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rat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600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udio Quest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9" name="LEXAR:HobenReview1:apollo11sound.mov" descr=""/>
          <p:cNvPicPr/>
          <p:nvPr/>
        </p:nvPicPr>
        <p:blipFill>
          <a:blip r:embed="rId1"/>
          <a:stretch/>
        </p:blipFill>
        <p:spPr>
          <a:xfrm>
            <a:off x="4114800" y="2971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nswer 1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094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e picture below shows an example of this kind of landform.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24442" r="0" b="0"/>
          <a:stretch/>
        </p:blipFill>
        <p:spPr>
          <a:xfrm>
            <a:off x="1981080" y="3352680"/>
            <a:ext cx="538020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8288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ountai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3716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ichigan is made up of two of these landform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eninsula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682720" y="2666880"/>
            <a:ext cx="38862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8380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landform looks like a mountain with a flat top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838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lateau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4800" r="0" b="20002"/>
          <a:stretch/>
        </p:blipFill>
        <p:spPr>
          <a:xfrm>
            <a:off x="1447920" y="2438280"/>
            <a:ext cx="63514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133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art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1430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rtic, India, Pacific and this are the names of the Earth’s ocean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2057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tlantic Ocea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4479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the only continent that is also a country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ustralia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2952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are the 4 cardinal direction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44792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orth, South, East &amp; Wes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137160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put on a map to help you tell directio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752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mpass Ros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57200"/>
            <a:ext cx="77724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is part of the map usually has different symbols to represent different objects on the map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828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ap Ke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60948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4191120"/>
            <a:ext cx="1981080" cy="198108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91440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wo types of landforms that might be shown on a map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685800"/>
            <a:ext cx="76197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mountain, rivers, oceans, lakes, hills, islands, peninsulas, plateaus, plains, valleys, coastlines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238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You use a map to plan a ______ between two place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8288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Rout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33520"/>
            <a:ext cx="79246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university that has the following fight song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0" name="LEXAR:HobenReview1:CroppedFightSong.mov" descr=""/>
          <p:cNvPicPr/>
          <p:nvPr/>
        </p:nvPicPr>
        <p:blipFill>
          <a:blip r:embed="rId1"/>
          <a:stretch/>
        </p:blipFill>
        <p:spPr>
          <a:xfrm>
            <a:off x="6248520" y="4343400"/>
            <a:ext cx="914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ew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60948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29000" y="4114800"/>
            <a:ext cx="1905120" cy="190512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828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rescen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Stein Brunvand</cp:lastModifiedBy>
  <dcterms:modified xsi:type="dcterms:W3CDTF">2007-12-13T16:17:27Z</dcterms:modified>
  <cp:revision>64</cp:revision>
  <dc:subject/>
  <dc:title>No Slide Title</dc:title>
</cp:coreProperties>
</file>