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ct" ContentType="image/x-pict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14E-D74A-490E-B16B-BF4E04F2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FBD-DEAC-49CC-BC67-AC3EAE63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EF4-9A50-4237-A130-0286CF7B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BBF-5FF7-4EEF-BCB1-812AE8B6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450-166B-462F-8DFE-58AA001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5D7-2154-4454-ABC8-C416D66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A22-1A23-484C-87AF-4C004A10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447-3ADC-45E9-95BC-1CEE3523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8A6-25F7-45A1-8803-169B5B20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DA8-B42F-4FBE-847D-01EAE883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DEF-D97A-4D41-A462-200B1F8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1C2-6E1C-435D-BC2C-91E2716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0154-E9D2-4421-B0F7-5F7AB2691D0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4.xml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16.xml"/><Relationship Id="rId16" Type="http://schemas.openxmlformats.org/officeDocument/2006/relationships/slide" Target="slide26.xml"/><Relationship Id="rId17" Type="http://schemas.openxmlformats.org/officeDocument/2006/relationships/slide" Target="slide36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2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58.xml"/><Relationship Id="rId24" Type="http://schemas.openxmlformats.org/officeDocument/2006/relationships/slide" Target="slide30.xml"/><Relationship Id="rId25" Type="http://schemas.openxmlformats.org/officeDocument/2006/relationships/slide" Target="slide6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62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5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981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ibbou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762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1981440" cy="198144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ul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193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is a planet but the Sun is one of thes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a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8380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looks big not because it is the largest star but becaus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is the closest star to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3352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arth revolves around the Sun while this object revolves around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7621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 is approximately this many times larger than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15 mill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one of the reasons why we can’t travel to the Su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80769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hot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’s too far away!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old is one type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nera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order to test the hardness of a mineral we could do this type of tes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cratch T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57200"/>
            <a:ext cx="7925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ile we can often tell this about a mineral just by looking at it, to be sure we need to do a streak tes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lo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hases of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The Moon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oon and 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Earth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Landforms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pping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9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Propertie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Of Mineral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Times New Roman"/>
              </a:rPr>
              <a:t>&amp; Rocks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002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e can learn this about a mineral by weighing i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ensit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9907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combination of several minerals put together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Rock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takes approximately this many days for the moon to revolve around the Earth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oon gets it’s light from this sour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u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6858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t would be difficult to live on the Moon because it doesn’t have any of thi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295280"/>
            <a:ext cx="7619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mosphe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09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814400" cy="181476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4479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an object hits the Moon one of these is form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057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a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dio Ques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9" name="LEXAR:HobenReview1:apollo11sound.mov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swer 1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094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picture below shows an example of this kind of landform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24442" r="0" b="0"/>
          <a:stretch/>
        </p:blipFill>
        <p:spPr>
          <a:xfrm>
            <a:off x="1981080" y="3352680"/>
            <a:ext cx="53802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828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unt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igan is made up of two of these landform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ninsula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82720" y="2666880"/>
            <a:ext cx="3886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8380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landform looks like a mountain with a flat to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lateau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4800" r="0" b="20002"/>
          <a:stretch/>
        </p:blipFill>
        <p:spPr>
          <a:xfrm>
            <a:off x="1447920" y="2438280"/>
            <a:ext cx="6351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ar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tic, India, Pacific and this are the names of the Earth’s ocea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lantic Ocea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the only continent that is also a countr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ustrali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re the 4 cardinal direction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44792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orth, South, East &amp; Wes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37160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put on a map to help you tell dire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ass Ros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57200"/>
            <a:ext cx="7772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part of the map usually has different symbols to represent different objects on the map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828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ap Ke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1981080" cy="198108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wo types of landforms that might be shown on a ma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85800"/>
            <a:ext cx="76197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mountain, rivers, oceans, lakes, hills, islands, peninsulas, plateaus, plains, valleys, coastlines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use a map to plan a ______ between two pla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out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33520"/>
            <a:ext cx="79246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university that has the following fight song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0" name="LEXAR:HobenReview1:CroppedFightSong.mov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ew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094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the Phase of the Moon shown in the pic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1905120" cy="1905120"/>
          </a:xfrm>
          <a:prstGeom prst="rect">
            <a:avLst/>
          </a:prstGeom>
          <a:ln w="15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rescen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Stein Brunvand</cp:lastModifiedBy>
  <dcterms:modified xsi:type="dcterms:W3CDTF">2007-12-13T16:17:27Z</dcterms:modified>
  <cp:revision>64</cp:revision>
  <dc:subject/>
  <dc:title>No Slide Title</dc:title>
</cp:coreProperties>
</file>