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ct" ContentType="image/x-pict"/>
  <Override PartName="/ppt/media/image10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B429-3D90-48E9-B01C-A5C715FE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0BB6-4940-4B11-9E5C-9B86CB9B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DBC-27FB-4650-B8A3-C2F7705B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CE86-923F-49A6-A76F-7571D2C9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C61D-38F6-4A9A-A18A-01AF1E8B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142C-65E9-4A9D-B67E-804F753A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40F0-969B-4236-928F-B57BB3C7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33B0-FD5E-4D05-A300-314F957C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5748-606F-4B58-83D2-E336088C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C26-05B4-4D9A-A6EA-9819B97D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075-8856-4819-9946-3E5C639C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BE4F-F15F-47DD-BD96-6C0CB58C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BBBD-58C0-4CD6-A051-0A74C033752D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64.xml"/><Relationship Id="rId6" Type="http://schemas.openxmlformats.org/officeDocument/2006/relationships/slide" Target="slide64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6.xml"/><Relationship Id="rId9" Type="http://schemas.openxmlformats.org/officeDocument/2006/relationships/slide" Target="slide8.xml"/><Relationship Id="rId10" Type="http://schemas.openxmlformats.org/officeDocument/2006/relationships/slide" Target="slide10.xml"/><Relationship Id="rId11" Type="http://schemas.openxmlformats.org/officeDocument/2006/relationships/slide" Target="slide1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16.xml"/><Relationship Id="rId16" Type="http://schemas.openxmlformats.org/officeDocument/2006/relationships/slide" Target="slide26.xml"/><Relationship Id="rId17" Type="http://schemas.openxmlformats.org/officeDocument/2006/relationships/slide" Target="slide36.xml"/><Relationship Id="rId18" Type="http://schemas.openxmlformats.org/officeDocument/2006/relationships/slide" Target="slide18.xml"/><Relationship Id="rId19" Type="http://schemas.openxmlformats.org/officeDocument/2006/relationships/slide" Target="slide20.xml"/><Relationship Id="rId20" Type="http://schemas.openxmlformats.org/officeDocument/2006/relationships/slide" Target="slide22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58.xml"/><Relationship Id="rId24" Type="http://schemas.openxmlformats.org/officeDocument/2006/relationships/slide" Target="slide30.xml"/><Relationship Id="rId25" Type="http://schemas.openxmlformats.org/officeDocument/2006/relationships/slide" Target="slide60.xml"/><Relationship Id="rId26" Type="http://schemas.openxmlformats.org/officeDocument/2006/relationships/slide" Target="slide32.xml"/><Relationship Id="rId27" Type="http://schemas.openxmlformats.org/officeDocument/2006/relationships/slide" Target="slide42.xml"/><Relationship Id="rId28" Type="http://schemas.openxmlformats.org/officeDocument/2006/relationships/slide" Target="slide62.xml"/><Relationship Id="rId29" Type="http://schemas.openxmlformats.org/officeDocument/2006/relationships/slide" Target="slide2.xml"/><Relationship Id="rId3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53352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Phase of the Moon shown in the pictur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76720" y="3962520"/>
            <a:ext cx="2209680" cy="220968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981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ibbous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762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Phase of the Moon shown in the pictur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352680" y="4267080"/>
            <a:ext cx="1981440" cy="198144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447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ull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2193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Earth is a planet but the Sun is one of thes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057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ta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83808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Sun looks big not because it is the largest star but because of thi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9051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t is the closest star to Earth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33520"/>
            <a:ext cx="7924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Earth revolves around the Sun while this object revolves around Earth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981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Moo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76212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Sun is approximately this many times larger than the Earth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981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15 millio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91440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is one of the reasons why we can’t travel to the Sun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905120"/>
            <a:ext cx="80769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4501"/>
              </a:spcBef>
              <a:buClr>
                <a:srgbClr val="ff99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t’s too hot!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spcBef>
                <a:spcPts val="4501"/>
              </a:spcBef>
              <a:buClr>
                <a:srgbClr val="ff99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t’s too far away!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7524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old is one type of thi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7524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ineral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1430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n order to test the hardness of a mineral we could do this type of test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600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cratch Test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57200"/>
            <a:ext cx="79250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While we can often tell this about a mineral just by looking at it, to be sure we need to do a streak test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447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lo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hases of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The Moon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1523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The Su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457200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Moon and 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Earth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6095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Landforms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7620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Mapping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>
            <a:hlinkClick r:id="rId29" action="ppaction://hlinksldjump"/>
          </p:cNvPr>
          <p:cNvSpPr/>
          <p:nvPr/>
        </p:nvSpPr>
        <p:spPr>
          <a:xfrm>
            <a:off x="3048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Times New Roman"/>
              </a:rPr>
              <a:t>Properties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Times New Roman"/>
              </a:rPr>
              <a:t>Of Minerals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Times New Roman"/>
              </a:rPr>
              <a:t>&amp; Rocks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6002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e can learn this about a mineral by weighing it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7524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Density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99072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is the combination of several minerals put together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17524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Rock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0948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t takes approximately this many days for the moon to revolve around the Earth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2057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2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143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Moon gets it’s light from this sourc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Su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685800"/>
            <a:ext cx="761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t would be difficult to live on the Moon because it doesn’t have any of thi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1295280"/>
            <a:ext cx="76197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i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at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tmospher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60948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Phase of the Moon shown in the pictur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1814400" cy="181476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44792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en an object hits the Moon one of these is formed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057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rat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6002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udio Questio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9" name="LEXAR:HobenReview1:apollo11sound.mov" descr=""/>
          <p:cNvPicPr/>
          <p:nvPr/>
        </p:nvPicPr>
        <p:blipFill>
          <a:blip r:embed="rId1"/>
          <a:stretch/>
        </p:blipFill>
        <p:spPr>
          <a:xfrm>
            <a:off x="4114800" y="29718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nswer 1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60948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e picture below shows an example of this kind of landform.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24442" r="0" b="0"/>
          <a:stretch/>
        </p:blipFill>
        <p:spPr>
          <a:xfrm>
            <a:off x="1981080" y="3352680"/>
            <a:ext cx="538020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8288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ountai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3716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ichigan is made up of two of these landform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eninsulas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682720" y="2666880"/>
            <a:ext cx="388620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8380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landform looks like a mountain with a flat top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838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lateau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4800" r="0" b="20002"/>
          <a:stretch/>
        </p:blipFill>
        <p:spPr>
          <a:xfrm>
            <a:off x="1447920" y="2438280"/>
            <a:ext cx="63514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133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art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1430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rtic, India, Pacific and this are the names of the Earth’s ocean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20574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tlantic Ocea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44792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is the only continent that is also a country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ustralia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12952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se are the 4 cardinal direction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144792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orth, South, East &amp; West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137160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is put on a map to help you tell direction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752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mpass Ros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57200"/>
            <a:ext cx="77724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is part of the map usually has different symbols to represent different objects on the map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8288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ap Key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60948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Phase of the Moon shown in the pictur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29000" y="4191120"/>
            <a:ext cx="1981080" cy="198108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914400"/>
            <a:ext cx="761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wo types of landforms that might be shown on a map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685800"/>
            <a:ext cx="76197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mountain, rivers, oceans, lakes, hills, islands, peninsulas, plateaus, plains, valleys, coastlines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52388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You use a map to plan a ______ between two place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8288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Rout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7" name="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533520"/>
            <a:ext cx="792468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university that has the following fight song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30" name="LEXAR:HobenReview1:CroppedFightSong.mov" descr=""/>
          <p:cNvPicPr/>
          <p:nvPr/>
        </p:nvPicPr>
        <p:blipFill>
          <a:blip r:embed="rId1"/>
          <a:stretch/>
        </p:blipFill>
        <p:spPr>
          <a:xfrm>
            <a:off x="6248520" y="4343400"/>
            <a:ext cx="914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ew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60948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Phase of the Moon shown in the pictur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429000" y="4114800"/>
            <a:ext cx="1905120" cy="190512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8288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rescent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Stein Brunvand</cp:lastModifiedBy>
  <dcterms:modified xsi:type="dcterms:W3CDTF">2007-12-13T16:17:27Z</dcterms:modified>
  <cp:revision>64</cp:revision>
  <dc:subject/>
  <dc:title>No Slide Title</dc:title>
</cp:coreProperties>
</file>